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3C44-A9EF-4A8C-8D50-ABFBC1E7B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C10C-AC12-418F-8A2B-20857D12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4574-68E7-46E8-8982-A51621B7C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FD76-295A-4BD3-88A8-19E97786F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C7B7-18CD-4E0F-AF39-36BF25C2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1DED-FDE1-4850-BC9B-FC71CD75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3FEA-0BF5-4DD6-8A51-07B6A5D5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B4BC-9B88-41CF-80E4-CE16E552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D3AD-4DB7-49E2-A55F-15137603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10B9-9EB7-4F70-AC85-F33E94E4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676D-B800-48EF-AEDC-534A9D8E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3FC1-858C-4E81-AD8C-4447BBF0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4623-8272-43C2-ABC9-19B86AEBE5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6858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– Compte-rendu de réun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609480"/>
            <a:ext cx="5105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Reengineering du processus de traitement des courriers cli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5105520" y="609480"/>
            <a:ext cx="1752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ate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02/03/0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1295280"/>
            <a:ext cx="68580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Réunion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Groupe des secrétai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articipants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M. Yohan, Mmes Hélène, Anne, Boranie, Anne-Marie et Pasca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xcusés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Mmes Marie-Claire et Christia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2971800"/>
            <a:ext cx="68580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Ordre du jour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escription du processus de traitement des courriers des clients au sein de la banq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nventaire des motifs classiques des réclam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Évaluation des encours et des déla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0" y="8305920"/>
            <a:ext cx="6858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rochaine réunion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e 15/06/09 de 10 H à 12 H en salle « L’Imbertière 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0" y="4648320"/>
            <a:ext cx="685800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Résumé des points traités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escription du processus de traitement des courriers des clients au sein de la banque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Processus variés selon les Directions et Ser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Pas de procédure de traitement formalisé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nventaire des motifs classiques des réclamations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Beaucoup de réclamations causées par la baisse de la Bour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Beaucoup de demandes de renseignement concernant la déclaration des revenus 200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Évaluation des encours et des délais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es délais variables et plutôt en détérior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Un stock de courriers en augment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1:02:41Z</dcterms:created>
  <dc:creator>MADERS</dc:creator>
  <dc:description/>
  <dc:language>en-US</dc:language>
  <cp:lastModifiedBy>Matthieu Montaudouin</cp:lastModifiedBy>
  <dcterms:modified xsi:type="dcterms:W3CDTF">2009-06-08T10:04:09Z</dcterms:modified>
  <cp:revision>12</cp:revision>
  <dc:subject/>
  <dc:title>Présentation PowerPoint</dc:title>
</cp:coreProperties>
</file>